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3A978-0132-4A61-AFA0-1806EF9462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not currently supporting passing arguments to an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JBoss 3.2 Server from the list of Servers and then click on the Control tab. Show the actions which are available. Hit the New button under Control Action Schedule and show how actions can be schedu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Alert tab for the JBoss 3.2 server and then hit the New button. Go ahead and create an alert for “transaction rolled back &gt; 0” and enable actions “Each time conditions are exceeded or met“.  Hit OK. Add a notification to the jbnadmin user and a control action to restart the server. Go back to the Alert tab and hit the Alerts button, describe that this is where the alerts would 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 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bility to add a DataSource to a JBos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ing a DataSource configuration will actually update its deployment descriptor so that the change is per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Manage tab and show how there is nothing there currently. This is were new actions will go.]</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hoose DashBoard. Review the various portlets which are available. Demonstrate Search Portlet. Say will talk about Auto-discovery/Recently Added Resources portlets in the next presentation. Show adding a resource to the Favorite Resources portlet. Show where Recent alerts would be listed and where recently executed control actions go.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ust picked out a few of the more interesting portlets which are displayed on the Dashboard. Information on all of the portlets on the DashBoard is available in the online hel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o discovery portlet lists out the resources which JBN EM has automatically discovered in your environment. You can then choose whether to import them into the inventory or ignore th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ent Alerts portlet: As it says on the can, provides a list of alerts which have occurred recently. Can configure for which resources to show alerts for.</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ol Actions portlet: Lists out control actions which have been executed recentl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blem Resources portlet: Lists out resources for which an alert has been fired, or for which a metric has gone ‘out of bounds’ (more on this in the GUI2 presentation).</a:t>
            </a:r>
            <a:endParaRPr b="0" lang="en-US" sz="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Administration Link: Show listing of users, listing of roles. Show configuration of JBNEM, show configuration of default metric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JBN EM’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EM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platform for the users local machine. Go to the inventory page and add a new FileServer Directory Servi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the path variable to be a temp folder, e.g. C:/tmp/jbnem making sure to get slashes righ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Set the interval to be like 10secs on the Monitor&gt;Configure pa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a:t>
            </a:r>
            <a:r>
              <a:rPr b="1" lang="en-US" sz="1200" spc="-1" strike="noStrike">
                <a:solidFill>
                  <a:srgbClr val="000000"/>
                </a:solidFill>
                <a:latin typeface="Arial"/>
              </a:rPr>
              <a:t>Metric Display Range</a:t>
            </a:r>
            <a:r>
              <a:rPr b="0" lang="en-US" sz="1200" spc="-1" strike="noStrike">
                <a:solidFill>
                  <a:srgbClr val="000000"/>
                </a:solidFill>
                <a:latin typeface="Arial"/>
              </a:rPr>
              <a:t> in on the Monitor&gt;Visibility page to be say 8mins to see the metrics coming i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dd new Files to the folder, add new subfolders. See the graphs change in JBNEM, see the metric data change Monitor&gt;Visibility&gt;Metric Dat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Just need to specify a name, a metric to look at, e.g. Total (files), and a condition e.g. &gt; 3. Leave everything at defaults we will talk about more of the settings in the next pres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dding more files to folder should trigger the alert which will show up on the dashboar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ab is a very simple exercise to show that control action actually work, and have an impact on the metrics being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gain need to set collection interval to something short like 30sec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UI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BN EM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tch to web browser. You can either click through the JBN EM or follow along in the ppt and watch</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Lo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 Dashboard, will come back to once we’ve looked at the Resource View, since the Dashboard aggregates lots of the information from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Browse Resources, click through various lists of resources (leave groups and apps until the next session). Switch to the chart view to show thumb-nail images of the availability and some of the other indicators which are collected for each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WebLog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come back to the various collections in the next presentation, but suffice to say 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Highlight the M, I, C, A icons as a way to get to the various sub-section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back to Platform view and click on the platform JBNEM is hosted on. View the indicator graphs to show availability and performance/health metrics such as CPU usage and free memory. Click on the bar beneath all the charts to highlight a particular time across all the charts. Then click on the Metric Data sub-tab to show all collected metrics in a tabular format. Click on the Configure button to list all available metrics, demonstrate turning on collection of CPU idle seconds, setting collection interval to 1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lick on the Inventory tab to show for the platform to see the data which is available, and the servers and services which are contained by the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For a service, e.g. JCA Conn. Pool, it will show the containing Server, e.g.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just information which JBN EM uses to locate and identify the resource, e.g. for a Connection Pool you can update the name of the pool, but this will not actually update the deployment descriptor that created the connection pool. [Not yet at least </a:t>
            </a:r>
            <a:r>
              <a:rPr b="0" lang="en-US" sz="1200" spc="-1" strike="noStrike">
                <a:solidFill>
                  <a:srgbClr val="000000"/>
                </a:solidFill>
                <a:latin typeface="Wingdings"/>
                <a:ea typeface="Wingdings"/>
              </a:rPr>
              <a:t></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5B3BA7B6-926C-4C88-AFBB-7C6DD2C26C7F}"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N Enterprise Management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p:txBody>
      </p:sp>
      <p:pic>
        <p:nvPicPr>
          <p:cNvPr id="109"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rol</a:t>
            </a:r>
            <a:endParaRPr b="0" lang="en-US" sz="28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llows execution of particular actions on a resource.</a:t>
            </a:r>
            <a:endParaRPr b="0" lang="en-US" sz="2200" spc="-1" strike="noStrike">
              <a:solidFill>
                <a:srgbClr val="000000"/>
              </a:solidFill>
              <a:latin typeface="Verdana"/>
            </a:endParaRPr>
          </a:p>
          <a:p>
            <a:pPr lvl="1" marL="907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ly available for certain resources. Available actions depend on resource type.</a:t>
            </a:r>
            <a:endParaRPr b="0" lang="en-US" sz="2200" spc="-1" strike="noStrike">
              <a:solidFill>
                <a:srgbClr val="000000"/>
              </a:solidFill>
              <a:latin typeface="Verdana"/>
            </a:endParaRPr>
          </a:p>
          <a:p>
            <a:pPr lvl="1" marL="907920"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137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n view history of previously executed control actions.</a:t>
            </a:r>
            <a:endParaRPr b="0" lang="en-US" sz="2200" spc="-1" strike="noStrike">
              <a:solidFill>
                <a:srgbClr val="000000"/>
              </a:solidFill>
              <a:latin typeface="Verdana"/>
            </a:endParaRPr>
          </a:p>
          <a:p>
            <a:pPr lvl="1" marL="907920"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ctions can be executed immediately or scheduled for later execution (may be recurring or non-recurring schedule).</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3"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erts</a:t>
            </a:r>
            <a:endParaRPr b="0" lang="en-US" sz="28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 </a:t>
            </a:r>
            <a:endParaRPr b="0" lang="en-US" sz="2000" spc="-1" strike="noStrike">
              <a:solidFill>
                <a:srgbClr val="000000"/>
              </a:solidFill>
              <a:latin typeface="Verdana"/>
            </a:endParaRPr>
          </a:p>
          <a:p>
            <a:pPr lvl="2" marL="1305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onally) an email can be sent to JBNEM users, JBNEM roles or external email addresses.</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onally) a control action can be executed.</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pic>
        <p:nvPicPr>
          <p:cNvPr id="117"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ing so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actions will enable users to actually update resources being managed, rather than just changing the information which JBN EM maintains about the resour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2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pic>
        <p:nvPicPr>
          <p:cNvPr id="123"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uses its own authentication/authorization subsystem.</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 for JBN EM configuration via Portal.</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pic>
        <p:nvPicPr>
          <p:cNvPr id="127"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Walkthrough.</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2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on every pag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 sensitive for each page is also availab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151.204.189.89:8080/xwiki/bin/view/JBN/Index</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151.204.189.89:8080/xwiki/bin/view/JBN/Console+Referen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 1: Metrics and Alerts</a:t>
            </a:r>
            <a:endParaRPr b="0" lang="en-US" sz="3400" spc="-1" strike="noStrike">
              <a:solidFill>
                <a:srgbClr val="000000"/>
              </a:solidFill>
              <a:latin typeface="Verdana"/>
            </a:endParaRPr>
          </a:p>
        </p:txBody>
      </p:sp>
      <p:sp>
        <p:nvSpPr>
          <p:cNvPr id="13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d a FileServer Directory servic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directory and view metric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d an alert to the service and trigger i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 2: Metrics and Control Actions</a:t>
            </a:r>
            <a:endParaRPr b="0" lang="en-US" sz="30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 for JCA Conn pool.</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metrics are collected.</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ssue a Stop control action on the JCA Connection pool.</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changes in displayed metric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ortal is one of two interfaces for accessing the JBNEM functionality (other being CLI).</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t JSR-168 portal, but a custom Struts web applic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rmally runs in the JBoss (Tomcat) instance which runs JBNEM Server itself.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ortal contains 3 keys section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 Allows viewing of performance/health metrics on all resources under management. Supports execution of actions on certain resources, e.g. stop/start JBoss.</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shboard – Aggregates various information into a single screen.</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 Contains user and role management and access control definition for both Portal and CLI.</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isting managed resourc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dividual resource categories: Platforms, Servers and Services (e.g. ConnectionPools, EJBs).</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rouping resource categories: Compatible Groups, Mixed Groups, Applications.</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sts can be filtered by resource type.</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ntry point for resource viewing and selection.</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List</a:t>
            </a:r>
            <a:endParaRPr b="0" lang="en-US" sz="3400" spc="-1" strike="noStrike">
              <a:solidFill>
                <a:srgbClr val="000000"/>
              </a:solidFill>
              <a:latin typeface="Verdana"/>
            </a:endParaRPr>
          </a:p>
        </p:txBody>
      </p:sp>
      <p:pic>
        <p:nvPicPr>
          <p:cNvPr id="101"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metric values collected on a resource over tim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metric values in three way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High-level chart (defaul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char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aw metric data.</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figure which metrics are actually collected and how frequently they are collected (called the “metric collection interva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pic>
        <p:nvPicPr>
          <p:cNvPr id="105"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 There are four categori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ype information, e.g. JBoss 3.2, 4.0.</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ist of resources it contains, e.g. Servers on this Platfor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ist of resources which contain it, e.g. Groups containing this Serve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information used by JBN EM, e.g. location of run.bat for JBoss.</a:t>
            </a:r>
            <a:endParaRPr b="0" lang="en-US" sz="23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9:17:31Z</dcterms:created>
  <dc:creator>Charles Crouch</dc:creator>
  <dc:description/>
  <dc:language>en-US</dc:language>
  <cp:lastModifiedBy>Charles Crouch</cp:lastModifiedBy>
  <dcterms:modified xsi:type="dcterms:W3CDTF">2005-07-11T02:10:53Z</dcterms:modified>
  <cp:revision>46</cp:revision>
  <dc:subject/>
  <dc:title>GUI Overvewi </dc:title>
</cp:coreProperties>
</file>